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9093-CA16-44F9-96DB-1E6A3A9E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C533-8C10-4269-BA61-47E8C8856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HIV from: http://www.ox.ac.uk/news/2015-10-09-hiv-researchers-find-‘biomarkers’-can-predict-virus-remission-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3B3D-3CDD-4599-89FB-45F58D6C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EC0-C814-4626-9498-ECA6D98B4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CDC8-962C-479F-80E2-E978D31E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273E-DF1D-4159-B3A3-73581095F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ids.britannica.com/elementary/art-124682/Following-retrovirus-infection-reverse-transcriptase-converts-viral-RNA-into-prov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quell.com/en-us/resources-and-support/microbiology/influenza-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4F13-2E0A-430F-B8CB-AD6B7950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5F32-AE65-47F7-819B-2CAA737BB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signedbabies.wordpress.com/2010/12/15/how-a-designer-baby-can-be-produc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A1C-EBEB-4B60-BF7A-8148B0BD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9BB-7FD8-48AD-B3F7-09BFE731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DE4-4C98-47FC-A01F-CCB0AF28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131-26DF-4A23-8588-72F8D696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272-BA02-45BD-A7E2-5344232B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D25-7C97-4BB1-B0F0-D7B92CF3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A41-F9F6-4685-B97E-55771BF8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B06-E7ED-4FF6-BBCE-96D4160F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1FB-F635-40EA-8895-2594AC79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76B-A2D5-40B1-80E7-C4876365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4CD-481B-48BB-8B20-A0649688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468-408A-4D0F-A7E6-1841EF8D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9BC-4707-48AB-BA85-BCE0C23C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.7 Viruses: A Special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already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onsidered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cle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tein c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aps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also surrounded by enve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creen-capture-268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of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 can have double-stranded DNA, single-stranded DNA, or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al DNA is transcribed and translated to synthesize viral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viral RNA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r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ct RNA &amp; enzymes into hos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erse transcribes viral RNA to make a single-stranded DNA and its complementary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orporates viral DNA into host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126182-004-A23C1423"/>
          <p:cNvPicPr/>
          <p:nvPr/>
        </p:nvPicPr>
        <p:blipFill>
          <a:blip r:embed="rId1"/>
          <a:stretch/>
        </p:blipFill>
        <p:spPr>
          <a:xfrm>
            <a:off x="1749600" y="609480"/>
            <a:ext cx="564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 in RNA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za A virus has 8 genes that code for 11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 polymerase enzymes show high rate of replication error (i.e. mutations are com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6" descr="Microbiology_420x420_Influenza_virus_2008765.jpg"/>
          <p:cNvPicPr/>
          <p:nvPr/>
        </p:nvPicPr>
        <p:blipFill>
          <a:blip r:embed="rId1"/>
          <a:srcRect l="3707" t="0" r="370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 as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enetic information can be inserted into a cell or bacterium using a viral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cience611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4:31:49Z</dcterms:created>
  <dc:creator>rubina khan</dc:creator>
  <dc:description/>
  <dc:language>en-US</dc:language>
  <cp:lastModifiedBy>rubina khan</cp:lastModifiedBy>
  <dcterms:modified xsi:type="dcterms:W3CDTF">2017-04-07T13:48:41Z</dcterms:modified>
  <cp:revision>50</cp:revision>
  <dc:subject/>
  <dc:title>Viruses</dc:title>
</cp:coreProperties>
</file>